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AE4-A34C-4285-A453-C99F87C3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3AF-18BD-492F-9E3F-A64F49A2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D37-9154-4611-A4D5-F5D3A814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23B-F5A6-4E18-9EE4-EBF57B7B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09C-A755-4CC0-9195-6CEF06BE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2B8-610D-48C6-B38C-D21A7794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703-18E9-43FF-B0B8-82228405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25D-7660-4065-803F-684B88E2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A19F-E935-4C6F-A3F5-A0A071F2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AE4-1445-48B1-A195-82B92B9C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CF9-8A60-4916-B997-A0B7D101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F73-D46B-4B97-B576-1A3CE323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CB83-4ECB-4FA4-898C-D3D8B710B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67600" y="5734080"/>
            <a:ext cx="107640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1280" y="-7920"/>
            <a:ext cx="8532720" cy="141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1. Descripción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640" y="1844280"/>
            <a:ext cx="8172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gra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spaldado en un fondo de $ 50 millones, que el Estado asigna a COFIDE y éste mediante un operador (SECREX) cobertura con una póliza de seguro a los bancos en el 50% del valor de los créditos pre-embarque que otorgan a las PYMES exportad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ampliación del financiamiento a aquellas PYMES que ya tengan comprometidas todas sus garantías; y, mejor aún, posibilitar el acceso a nuevas empresas que cuentan con garantías insu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Un exportador que ya no tiene activos para prendar solicita un crédito preembarque al ban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l banco le otorga el crédito y utiliza como garantía la póliza SEPYMEX, la cual garantiza el 50% del créd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i el exportador no paga el crédito, el banco recupera el 50% del valor del financiamiento a través del SEPYM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6720" y="2060640"/>
            <a:ext cx="7866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Condiciones de la Póli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gura créditos pre-embarque cuyo plazo es no mayor a 18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obertura es por el 50% del importe del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segura los créditos que la empresa tenga vigente con el sistema financiero hasta por un total de USD 3,0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osto de la prima es de 0.35% flat trimestral o fracción, más IG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3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oximadamente 400 empresas exportadoras se vieron beneficiadas con el SEPYME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locaron más de US$ 700 millones en créditos pre-emba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Aumento de líneas de crédito a las empresas hasta en un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ducción de la tasa de interés en algunas de las empresas benefic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aja siniestralidad: menos del 1% de los créditos no fueron pagados en su oport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studios de caso mostraron que el SEPYMEX cumplió un rol fundamental en el incremento de las exportaciones. En una empresa arequipeña el incremento fue de hasta un 10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créditos fueron destinados principalmente a  Lima, Piura, Arequipa, La Libertad,  Ica, Ancash y Ucayali. Programa descentraliz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atrimonio no debe haber sufrido una disminución respecto al ejercicio anterior, excepto que haya sido consecuencia de la distribución de util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encontrarse bajo algún procedimiento concurs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ficación crediticia debe ser en un 85% como mínimo en  Normal y/o CP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5. Requisitos para acceder a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A través de las siguientes instituciones financier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Contin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de Crédito B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Interamericano de Finanz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Inter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cotia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6. ¿Cómo acceder al SEPYME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2:13:19Z</dcterms:created>
  <dc:creator>Jovanka Soko</dc:creator>
  <dc:description/>
  <dc:language>en-US</dc:language>
  <cp:lastModifiedBy>METALHEAD</cp:lastModifiedBy>
  <dcterms:modified xsi:type="dcterms:W3CDTF">2009-01-27T00:15:26Z</dcterms:modified>
  <cp:revision>215</cp:revision>
  <dc:subject/>
  <dc:title>PENX y Facilitación de Comercio - FORTALEZAS</dc:title>
</cp:coreProperties>
</file>